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57.png" ContentType="image/png"/>
  <Override PartName="/ppt/media/image16.wmf" ContentType="image/x-wmf"/>
  <Override PartName="/ppt/media/image45.jpeg" ContentType="image/jpeg"/>
  <Override PartName="/ppt/media/image55.png" ContentType="image/png"/>
  <Override PartName="/ppt/media/image15.jpeg" ContentType="image/jpeg"/>
  <Override PartName="/ppt/media/image29.png" ContentType="image/png"/>
  <Override PartName="/ppt/media/image6.gif" ContentType="image/gif"/>
  <Override PartName="/ppt/media/image14.wmf" ContentType="image/x-wmf"/>
  <Override PartName="/ppt/media/image53.png" ContentType="image/png"/>
  <Override PartName="/ppt/media/image1.png" ContentType="image/png"/>
  <Override PartName="/ppt/media/image23.jpeg" ContentType="image/jpeg"/>
  <Override PartName="/ppt/media/image5.png" ContentType="image/png"/>
  <Override PartName="/ppt/media/image43.jpeg" ContentType="image/jpeg"/>
  <Override PartName="/ppt/media/image17.wmf" ContentType="image/x-wmf"/>
  <Override PartName="/ppt/media/image56.png" ContentType="image/png"/>
  <Override PartName="/ppt/media/image34.png" ContentType="image/png"/>
  <Override PartName="/ppt/media/image44.jpeg" ContentType="image/jpeg"/>
  <Override PartName="/ppt/media/image35.wmf" ContentType="image/x-wmf"/>
  <Override PartName="/ppt/media/image38.png" ContentType="image/png"/>
  <Override PartName="/ppt/media/LATIGO.WAV" ContentType="audio/x-wav"/>
  <Override PartName="/ppt/media/image39.png" ContentType="image/png"/>
  <Override PartName="/ppt/media/image42.jpeg" ContentType="image/jpeg"/>
  <Override PartName="/ppt/media/image46.jpeg" ContentType="image/jpeg"/>
  <Override PartName="/ppt/media/image54.png" ContentType="image/png"/>
  <Override PartName="/ppt/media/image47.jpeg" ContentType="image/jpeg"/>
  <Override PartName="/ppt/media/image51.png" ContentType="image/png"/>
  <Override PartName="/ppt/media/image12.wmf" ContentType="image/x-wmf"/>
  <Override PartName="/ppt/media/image48.jpeg" ContentType="image/jpeg"/>
  <Override PartName="/ppt/media/image49.jpeg" ContentType="image/jpeg"/>
  <Override PartName="/ppt/media/image37.wmf" ContentType="image/x-wmf"/>
  <Override PartName="/ppt/media/image7.wmf" ContentType="image/x-wmf"/>
  <Override PartName="/ppt/media/image30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25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9.wmf" ContentType="image/x-wmf"/>
  <Override PartName="/ppt/media/image41.png" ContentType="image/png"/>
  <Override PartName="/ppt/media/wind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FAE8-21AC-4880-AFF5-4B4390EC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A9C0-5100-48A1-B0DE-FDBF71C0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A0B-5EF6-4C17-BE65-829960A9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CEC-E92E-4AD5-AD90-83624928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8ACC-C637-4961-ADA2-ECE83DBA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6EB0-A24B-4714-8603-2FA7428C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A636-25CA-447C-BF0F-DD685A0D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6BB8-99C4-41B5-8005-4867D6D5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4130-8B45-4121-A586-64A929B6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F12F-B553-4553-B684-4EDB3E54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03BE-C6BC-4ACD-9DF1-CF5025DC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10A-ADE5-4CE5-9CCA-9D33762C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33CE-75CF-47E8-909C-89EF9DD3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4A0E-8E5D-47E9-B2D1-0719E48A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2AFB-B3BA-418E-A147-FC5E6050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158D-E746-4974-A797-B01A1237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3FB3-3721-40CC-BE00-33040F27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7D7-25C8-4985-9538-CE647A39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001-4B46-4B95-B855-056ED0C1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BB56-B821-494B-A2BC-FAF3250F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A19-383F-421B-992D-7AD77F60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447C-F6BA-4CE9-A992-280516B5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98C-B8B9-4269-B6DE-EED7C5D2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008-3EBF-4CBA-8EBE-604E4702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A4D2-A8F1-4DE9-AF10-5E6C6C0DD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6D96-8B3F-4B94-8C4B-0636E3B47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4.jpeg"/><Relationship Id="rId7" Type="http://schemas.openxmlformats.org/officeDocument/2006/relationships/image" Target="../media/image28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1.png"/><Relationship Id="rId7" Type="http://schemas.openxmlformats.org/officeDocument/2006/relationships/image" Target="../media/image34.png"/><Relationship Id="rId8" Type="http://schemas.openxmlformats.org/officeDocument/2006/relationships/image" Target="../media/image35.wmf"/><Relationship Id="rId9" Type="http://schemas.openxmlformats.org/officeDocument/2006/relationships/image" Target="../media/image36.jpeg"/><Relationship Id="rId10" Type="http://schemas.openxmlformats.org/officeDocument/2006/relationships/image" Target="../media/image37.wmf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png"/><Relationship Id="rId3" Type="http://schemas.openxmlformats.org/officeDocument/2006/relationships/image" Target="../media/image41.png"/><Relationship Id="rId4" Type="http://schemas.openxmlformats.org/officeDocument/2006/relationships/image" Target="../media/image31.jpeg"/><Relationship Id="rId5" Type="http://schemas.openxmlformats.org/officeDocument/2006/relationships/image" Target="../media/image1.png"/><Relationship Id="rId6" Type="http://schemas.openxmlformats.org/officeDocument/2006/relationships/audio" Target="../media/wind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0032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3960" y="476280"/>
            <a:ext cx="2552760" cy="345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00000" y="2522520"/>
            <a:ext cx="79441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RTIFICACIONES DE CALIDAD</a:t>
            </a:r>
            <a:endParaRPr b="0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5805360"/>
            <a:ext cx="5760720" cy="648000"/>
          </a:xfrm>
          <a:prstGeom prst="rect">
            <a:avLst/>
          </a:pr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Carlos Romero Góng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Superintendente Corporativo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39640" y="3679920"/>
            <a:ext cx="2727360" cy="198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 txBox="1"/>
          <p:nvPr/>
        </p:nvSpPr>
        <p:spPr>
          <a:xfrm>
            <a:off x="3527280" y="3675240"/>
            <a:ext cx="4429440" cy="82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LA INDUSTRIA</a:t>
            </a:r>
            <a:endParaRPr b="0" lang="en-US" sz="5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12000" y="2232000"/>
            <a:ext cx="2633400" cy="2709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820960" y="115920"/>
            <a:ext cx="578340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ffff"/>
                </a:solidFill>
                <a:latin typeface="Arial Black"/>
              </a:rPr>
              <a:t>¿COMO PERFECCIONAR LOS PROCESOS DE LA EMPRESA</a:t>
            </a:r>
            <a:r>
              <a:rPr b="0" i="1" lang="es-E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6400" y="3206880"/>
            <a:ext cx="635796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BENCHMARKING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REINGENIER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MEJORAMIENTO CONTINU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KAIZ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INNOVAC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CERTIFICACION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967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641680" cy="19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264168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908080" cy="19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148360" y="3360600"/>
            <a:ext cx="288108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093080" y="4987800"/>
            <a:ext cx="2016000" cy="14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798720" y="5146560"/>
            <a:ext cx="1997280" cy="145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5673600" y="5468760"/>
            <a:ext cx="1851120" cy="134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6620040" y="189000"/>
            <a:ext cx="219996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4000" y="3716280"/>
            <a:ext cx="3816360" cy="2571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n AUSTRAL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Calidad Certific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s el pasaporte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ingresar a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más exigentes</a:t>
            </a:r>
            <a:r>
              <a:rPr b="1" i="1" lang="es-MX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585200" y="1123920"/>
            <a:ext cx="836640" cy="108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940360" y="1133640"/>
            <a:ext cx="1152720" cy="114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1944360" cy="968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800000" cy="100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700360" y="3141720"/>
            <a:ext cx="2592360" cy="1001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144360" y="115920"/>
            <a:ext cx="1403280" cy="874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292720" y="3141720"/>
            <a:ext cx="1224000" cy="1008000"/>
          </a:xfrm>
          <a:prstGeom prst="rect">
            <a:avLst/>
          </a:prstGeom>
          <a:solidFill>
            <a:srgbClr val="00cc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95600" y="3284640"/>
            <a:ext cx="114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4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9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532296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225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GMP.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OS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18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A8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728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c905c"/>
              </a:gs>
              <a:gs pos="100000">
                <a:srgbClr val="00ff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BS8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79640" y="115920"/>
            <a:ext cx="7164360" cy="720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ALGUNAS CERTIFICACIONES INTERNA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DE RECONOCIDO PRESTIG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7237440" y="2565360"/>
            <a:ext cx="1727280" cy="1039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209520" y="3651120"/>
            <a:ext cx="1914480" cy="955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324000" y="1260360"/>
            <a:ext cx="1871640" cy="1019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155736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22960" y="1557360"/>
            <a:ext cx="4734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91320" y="301464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308772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3645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7236000" y="3716280"/>
            <a:ext cx="936360" cy="10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1"/>
          <a:stretch/>
        </p:blipFill>
        <p:spPr>
          <a:xfrm>
            <a:off x="8245440" y="3716280"/>
            <a:ext cx="760320" cy="100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659640" y="3807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093080" y="2997360"/>
            <a:ext cx="1800000" cy="10666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00360" y="3500280"/>
            <a:ext cx="5364000" cy="0"/>
          </a:xfrm>
          <a:prstGeom prst="line">
            <a:avLst/>
          </a:prstGeom>
          <a:ln w="76320">
            <a:solidFill>
              <a:srgbClr val="e612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03280" cy="84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2492280"/>
            <a:ext cx="60948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2349360"/>
            <a:ext cx="666720" cy="113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64000" y="3499920"/>
            <a:ext cx="10796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530520" y="3499920"/>
            <a:ext cx="11858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476360" y="3573360"/>
            <a:ext cx="1224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7960" y="333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ffff"/>
                </a:solidFill>
                <a:latin typeface="Arial Black"/>
              </a:rPr>
              <a:t>INTEGRANDO SISTEMAS DE CALIDAD CERTIFICADOS. RELACION CAUSA - EFECTO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5299200"/>
            <a:ext cx="1769760" cy="108252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ntigoniBd"/>
              </a:rPr>
              <a:t>F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76360" y="2852640"/>
            <a:ext cx="5183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RTIFICADOS DE CALIDA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95280" y="1463760"/>
            <a:ext cx="1895400" cy="95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572000" y="5300640"/>
            <a:ext cx="2095560" cy="100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79280" y="5300640"/>
            <a:ext cx="2181240" cy="9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484360" y="1430280"/>
            <a:ext cx="1990800" cy="990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44360" y="115920"/>
            <a:ext cx="1258920" cy="784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26920" y="5950080"/>
            <a:ext cx="863640" cy="2142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eam MT"/>
              </a:rPr>
              <a:t>HAC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2080" y="32130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"/>
              </a:rPr>
              <a:t>LIDERAZ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1413000"/>
            <a:ext cx="1727280" cy="100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ASDA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GEO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7128000" cy="6669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867280" y="417204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9640" y="4730760"/>
            <a:ext cx="4248360" cy="19382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932360" y="907920"/>
            <a:ext cx="3263760" cy="182268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826920" y="1413000"/>
            <a:ext cx="1729080" cy="172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8" name=""/>
          <p:cNvSpPr txBox="1"/>
          <p:nvPr/>
        </p:nvSpPr>
        <p:spPr>
          <a:xfrm>
            <a:off x="826920" y="2924280"/>
            <a:ext cx="489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SO 1400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6159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 Black"/>
              </a:rPr>
              <a:t>SISTEMA DE GESTION AMBIEN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68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68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7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77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16360" y="609120"/>
            <a:ext cx="599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ffff"/>
                </a:solidFill>
                <a:latin typeface="Arial"/>
              </a:rPr>
              <a:t>GESTION DE ETICA EN LOS NEGOCIO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655640" cy="103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414440" y="1916280"/>
            <a:ext cx="5533920" cy="4171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084720" y="2708280"/>
            <a:ext cx="2916360" cy="260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939960" y="4292640"/>
            <a:ext cx="3055680" cy="20383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179280" y="1996920"/>
            <a:ext cx="3087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8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ffff"/>
                </a:solidFill>
                <a:latin typeface="Arial"/>
              </a:rPr>
              <a:t>ORGANIZACIONES MUNDIALES PROMOVIENDO LA MEJORA EN LA CALIDAD DE VI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843280" y="1987560"/>
            <a:ext cx="4033800" cy="41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771640" y="1701720"/>
            <a:ext cx="134316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201636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804000" y="1844640"/>
            <a:ext cx="1944720" cy="138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6669000" y="3502080"/>
            <a:ext cx="2367000" cy="100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5292720" y="4879800"/>
            <a:ext cx="1708200" cy="164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2124000" y="5122800"/>
            <a:ext cx="1339920" cy="131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4396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10920" y="609120"/>
            <a:ext cx="65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QUE BUSCAMOS CERTIFICANDO LA CALIDAD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9680" y="112680"/>
            <a:ext cx="169560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508720" y="2709720"/>
            <a:ext cx="271152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2565360"/>
            <a:ext cx="4968720" cy="381636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ALIDAD ES UN ARTE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TE, LA INFORMACION Y 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TALACIONES PERO, POR ENCI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TODO ES UN PROCESO CRE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EL ARTE QUE MEZCLA 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TOS INGREDIENTES PARA CRE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POCO DE MAGIA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REATIVIDAD, EL COMPROMIS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LA PASION DE QUIENES CRE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ELLA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52600" y="1844640"/>
          <a:ext cx="628812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844640"/>
                    <a:ext cx="62881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00720" y="4869000"/>
            <a:ext cx="2447640" cy="14396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2060640"/>
            <a:ext cx="2448000" cy="1439640"/>
          </a:xfrm>
          <a:custGeom>
            <a:avLst/>
            <a:gdLst>
              <a:gd name="textAreaLeft" fmla="*/ 558720 w 2448000"/>
              <a:gd name="textAreaRight" fmla="*/ 1889280 w 2448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TEC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997360"/>
            <a:ext cx="3024000" cy="1728720"/>
          </a:xfrm>
          <a:custGeom>
            <a:avLst/>
            <a:gdLst>
              <a:gd name="textAreaLeft" fmla="*/ 690120 w 3024000"/>
              <a:gd name="textAreaRight" fmla="*/ 2333880 w 302400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SATISF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89000"/>
            <a:ext cx="70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CERTIFICAR LA CALIDAD</a:t>
            </a:r>
            <a:br>
              <a:rPr sz="36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SIGNIFICA………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6040" y="115920"/>
            <a:ext cx="144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1640" y="1484280"/>
            <a:ext cx="7273800" cy="4249800"/>
          </a:xfrm>
          <a:custGeom>
            <a:avLst/>
            <a:gdLst>
              <a:gd name="textAreaLeft" fmla="*/ 1660320 w 7273800"/>
              <a:gd name="textAreaRight" fmla="*/ 5613480 w 7273800"/>
              <a:gd name="textAreaTop" fmla="*/ 970200 h 4249800"/>
              <a:gd name="textAreaBottom" fmla="*/ 327960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a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3862440"/>
          <a:ext cx="215892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862440"/>
                    <a:ext cx="215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9280" y="1008000"/>
          <a:ext cx="2952720" cy="234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008000"/>
                    <a:ext cx="295272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203640" y="4819680"/>
          <a:ext cx="2679480" cy="20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19680"/>
                    <a:ext cx="267948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564000" y="404640"/>
          <a:ext cx="2879640" cy="211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404640"/>
                    <a:ext cx="287964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6227640" y="365040"/>
            <a:ext cx="2340000" cy="2200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58920" y="1989000"/>
            <a:ext cx="755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 CERTIFICADO TIENE SENTID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 rot="19959600">
            <a:off x="5958000" y="5444640"/>
            <a:ext cx="99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 rot="1843200">
            <a:off x="5321160" y="417600"/>
            <a:ext cx="11289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NS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 rot="20823000">
            <a:off x="324000" y="3125520"/>
            <a:ext cx="1619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L GENIO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 rot="20556600">
            <a:off x="1414080" y="560088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PRES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 rot="2678400">
            <a:off x="6649560" y="3068640"/>
            <a:ext cx="2314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OCUPACION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27280" y="333360"/>
            <a:ext cx="905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BI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39680" y="44280"/>
            <a:ext cx="1479600" cy="922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11280" y="2637000"/>
            <a:ext cx="4608720" cy="2087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UANDO EXPRESA NO SO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UN SENTIMIENTO SINO U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ANERA AUTENTIC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HACER LAS COSAS. UN EST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DE V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593040" y="4076640"/>
          <a:ext cx="316368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93040" y="4076640"/>
                    <a:ext cx="31636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9680" y="257040"/>
            <a:ext cx="1768320" cy="1101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484360" y="549360"/>
            <a:ext cx="66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OBLIGACION O CONVICCION</a:t>
            </a:r>
            <a:r>
              <a:rPr b="1" i="1" lang="es-MX" sz="32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213372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W. Edwards Deming:</a:t>
            </a:r>
            <a:br>
              <a:rPr sz="3200"/>
            </a:br>
            <a:r>
              <a:rPr b="1" lang="es-ES_tradnl" sz="3200" spc="-1" strike="noStrike">
                <a:solidFill>
                  <a:srgbClr val="00ffff"/>
                </a:solidFill>
                <a:latin typeface="Times New Roman"/>
              </a:rPr>
              <a:t>“No es suficiente que la dirección de una empresa se comprometa para toda la vida con la calidad y la productividad.  Debe saber a qué se compromete; es decir,  qué es lo que debe hacer. Estas obligaciones no pueden delegarse. El apoyo no basta. Se requiere acción”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1083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Black"/>
              </a:rPr>
              <a:t>CASI TODO LO QUE TRATA SOBRE LA CALIDAD SE REDUCE A NORMAS LARGAS Y PESADAS; MATEMATICA INTIMIDANTE E INCOMPRENSIBLE. GRAN CANTIDAD DE GRAFICOS; LENGUAJE ACADEMICO Y LA EVIDENTE SENSACIÓN DE IMPORTANCIA DE LOS AUT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OM P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20032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33360"/>
            <a:ext cx="457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LO QUE HACEMOS DÍA A DÍA. DE MODO QUE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CELENC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NO ES UN ACTO, SIN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HÁBIT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49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765000"/>
            <a:ext cx="8359560" cy="4972320"/>
          </a:xfrm>
          <a:prstGeom prst="irregularSeal2">
            <a:avLst/>
          </a:prstGeom>
          <a:solidFill>
            <a:srgbClr val="ccec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ALGUN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NUNCA CAMBIAN REALMEN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SOLO MEJORAN LA FOR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DE FINGIR QUE HAN CAMBI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235080"/>
          <a:ext cx="5800680" cy="66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580068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181240" y="5229360"/>
            <a:ext cx="6638760" cy="1323720"/>
          </a:xfrm>
          <a:prstGeom prst="leftRightArrow">
            <a:avLst>
              <a:gd name="adj1" fmla="val 50000"/>
              <a:gd name="adj2" fmla="val 99840"/>
            </a:avLst>
          </a:prstGeom>
          <a:solidFill>
            <a:srgbClr val="ffff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L 70 POR CIENTO DE LAS PERSO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RENUNCIAN A SUS JEFES, NO A SUS TRABAJ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627280" y="404640"/>
            <a:ext cx="6124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N CERTIFICADO DE CALIDAD DE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54520" y="912960"/>
            <a:ext cx="5038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RIGINAR UN CAMBIO EN 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19640" y="1415880"/>
            <a:ext cx="5371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NERA DE HACER LAS COS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4920" y="42840"/>
            <a:ext cx="1619280" cy="100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19920" y="1844640"/>
            <a:ext cx="3592440" cy="239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2646360" y="196920"/>
            <a:ext cx="6029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 CALIDAD CERTIFICADA ES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-2585880" y="2316240"/>
            <a:ext cx="7357680" cy="3200400"/>
            <a:chOff x="-2585880" y="2316240"/>
            <a:chExt cx="7357680" cy="3200400"/>
          </a:xfrm>
        </p:grpSpPr>
        <p:sp>
          <p:nvSpPr>
            <p:cNvPr id="210" name=""/>
            <p:cNvSpPr/>
            <p:nvPr/>
          </p:nvSpPr>
          <p:spPr>
            <a:xfrm>
              <a:off x="-2585880" y="338292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rcRect l="0" t="0" r="30379" b="0"/>
            <a:stretch/>
          </p:blipFill>
          <p:spPr>
            <a:xfrm>
              <a:off x="2260800" y="3078360"/>
              <a:ext cx="2511000" cy="1778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2" name=""/>
            <p:cNvGraphicFramePr/>
            <p:nvPr/>
          </p:nvGraphicFramePr>
          <p:xfrm>
            <a:off x="564120" y="2316240"/>
            <a:ext cx="2205360" cy="32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4120" y="2316240"/>
                      <a:ext cx="220536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4" name=""/>
          <p:cNvSpPr/>
          <p:nvPr/>
        </p:nvSpPr>
        <p:spPr>
          <a:xfrm>
            <a:off x="2266920" y="2781360"/>
            <a:ext cx="3168720" cy="273528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24240 h 2735280"/>
              <a:gd name="textAreaBottom" fmla="*/ 211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USTED </a:t>
            </a: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OPERAR 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LUGAR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MPET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3573360"/>
            <a:ext cx="3456000" cy="2448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558720 h 2448000"/>
              <a:gd name="textAreaBottom" fmla="*/ 1889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L EGOIS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Y EL SABOT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MATAN 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TRABAJO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QU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1584360" cy="987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916360" y="0"/>
            <a:ext cx="5473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RABAJO DE EQUIP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16720" y="260280"/>
            <a:ext cx="3132000" cy="3240000"/>
          </a:xfrm>
          <a:prstGeom prst="cloudCallout">
            <a:avLst>
              <a:gd name="adj1" fmla="val -83351"/>
              <a:gd name="adj2" fmla="val 48921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1330200"/>
            <a:ext cx="417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“</a:t>
            </a: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LA MAYOR OPORTUNIDAD QUE USTED TIENE PARA INCREMENTAR LOS RESULTADOS FINANCIEROS PROVIENE DE PERFECCIONAR SUS PROCESOS DE LA EMPRES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8000" y="95400"/>
            <a:ext cx="153504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700360" y="3068640"/>
          <a:ext cx="6192720" cy="36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3068640"/>
                    <a:ext cx="6192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560920" y="549360"/>
          <a:ext cx="3259080" cy="21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0920" y="549360"/>
                    <a:ext cx="32590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3:50:45Z</dcterms:created>
  <dc:creator> Carlos Romero</dc:creator>
  <dc:description/>
  <dc:language>en-US</dc:language>
  <cp:lastModifiedBy> Carlos Romero</cp:lastModifiedBy>
  <dcterms:modified xsi:type="dcterms:W3CDTF">2005-05-24T20:44:57Z</dcterms:modified>
  <cp:revision>5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183082</vt:lpwstr>
  </property>
</Properties>
</file>